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6287-342E-47BC-A8FA-91247DC3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6E14-BC61-4869-858B-C452DC6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1017-D016-4539-B404-6F771F8F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37A6-433B-435E-9A5F-8CCE987C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3061-2DFF-4AED-BAFD-4B114EA8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F5A9-1F94-433E-B1E0-14A34741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81FE-E34D-4DE3-88E1-7B174D2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377-0F36-4F2E-87D8-F04BDB32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EC0E-E396-4F55-B8F6-77EFBA2C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52EE-DACB-45E7-9CF7-783840AD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FEBC-DEB0-4A57-B70F-C9EEB2E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AF42-8710-4F70-88E4-8765548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F52D-E55F-4657-B8CF-9752F52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42A-1E7E-454D-B29C-3DE03A5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A0B8-8CF9-4BA8-9238-E4BA253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AACB-FB35-455E-9FAA-462D69BC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343-0320-4500-9FBF-DE6EF7F5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E147-1338-4548-BA6E-FB68921E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BB42-0253-450E-8143-4557DD0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D449-560B-4BD1-95A1-5281E211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A644-4FB0-4A83-9862-82D147F0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65A4-5CE6-42D4-96D9-0CAAB64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DAF8-8CB4-4B5C-B3BC-FD82322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3702-9AA9-46A5-B60A-6817CA0A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02D-39C6-4269-887E-AD94E831F5B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040E-D78A-4D7C-B20C-398BE7AAD00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80100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6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, иде в облаци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на кръст умря за н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те идат вси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дружават наший Сп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Да царува в царството Си иде Той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когато дойде в слав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о види всяк око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о гледат в страх тог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, кои разпнаха Го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В славата Му ще Го гледат те със страх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кат зазвучи тръба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ъртвите ще възкрес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 грешни из тъма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Христа ще се явят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Тях ще съди праведният Съдия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почест и държ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да пее цял всеми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арството вземи и в сл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го Ти царувай в ми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Спасе мил, ела и Ти царувай в век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42:40Z</dcterms:modified>
  <cp:revision>62</cp:revision>
  <dc:subject/>
  <dc:title>Slide 1</dc:title>
</cp:coreProperties>
</file>